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25F-1814-4B50-889C-1B514901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FE5-B46E-4859-AF07-BDC2F275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844-E8B4-472D-BB6A-5148538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5E7-E257-414B-B5C0-B6E7D4E3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CB2-3DCF-4C05-B854-0BF7D652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A93-2A9A-4DD9-9A2E-34DCA6D8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D8E-FCDA-4AA2-B633-C695E77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BEF-30AB-4EF2-A160-92F0BC6D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B2E-3EC2-43C2-8FA9-2DD40F7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BBB-D01E-48FE-AAA2-3BC1F1CC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A6B-014D-4E8A-9D93-EF92B86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786-B093-4EB2-AF73-691D7BD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6AD-EA9A-4012-BF7F-195AF0A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4B6-8F6D-41E1-B8A7-3569E4F8B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osidic bond/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lyc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functions of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uctural support, messengers, transport of materials, enzyme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primary” structure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s sequence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level of protein organization are ß-pleated sheets and the alpha-hel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yrimidine bases.  Describe their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ytosine, thymine,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le r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urine bases. Describe thei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enine, guanine  • doubl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mplementary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nsecutive nucleotides in a nucle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dieste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for 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sts/reagents are used to test for starch, lipids (2 tests), monosaccharides, and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ugols (iodine), translucence test, Sudan IV, Benedict’s reagent, Biuret re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2-18T22:34:42Z</dcterms:modified>
  <cp:revision>74</cp:revision>
  <dc:subject/>
  <dc:title>Carbohydrate Review</dc:title>
</cp:coreProperties>
</file>